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446-01EE-49B1-BB77-81E540C5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91E-E357-493C-8488-9710952F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B22-791F-4BA2-91E9-E2166AD1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A8A-017D-4614-BBCF-4D1DCEAA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9857-89FC-4561-B129-4EA4BD9F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CE46-0D0A-48EB-BBB0-1B6D533C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C242-188A-40F3-B415-CB41269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14EB-9D8C-45C2-9C15-E8292D5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03C5-3E30-4F65-B082-C5EBF449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88B4-B6C1-4225-B693-E9607B66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B217-DB6F-47C5-9509-03EACBF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4FD-0705-429A-A657-6F210AA9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5460-C381-4898-A751-4B6E4669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8BE5-9CDC-4A51-B015-A09223E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5478-E5B9-4411-B52F-A339A91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FC65-9A9A-4452-93BC-5C2E35BB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1E06-CF93-4127-9A13-D8DC0899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BFF-BCF5-429E-9470-BEFC275C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98C-018F-43DD-9F20-990E58D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5AB-6692-400A-BBB8-CBD71379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4C8-51AD-411D-921E-0194CF34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0DA-0AFB-42D7-8C84-60DB2155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12C-02B5-4833-954B-4583DB64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BD1-6962-41B6-8EC2-7BF722E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3585-4BB3-479F-AC59-BB2C978965A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028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1029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1030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1031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1032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1033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34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035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36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037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038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039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2BE-21CC-405E-9737-60CCA037409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57440" y="1218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HEART DISS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4120" y="38095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1" name="Picture 7" descr="http://www.people.virginia.edu/~rjh9u/gif/heartstr.gif"/>
          <p:cNvPicPr/>
          <p:nvPr/>
        </p:nvPicPr>
        <p:blipFill>
          <a:blip r:embed="rId1"/>
          <a:stretch/>
        </p:blipFill>
        <p:spPr>
          <a:xfrm>
            <a:off x="685800" y="533520"/>
            <a:ext cx="4572000" cy="5565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ft Ventricular Outflow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276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lood flows into the ventricles by passing through the mitral valve, but can you see where it flows out? This is a bit of a trick question because the outflow tract is hidden behind the mitral valv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Picture 7" descr="http://www.heartlab.rri.on.ca/dissect/lv_outflow.jpg"/>
          <p:cNvPicPr/>
          <p:nvPr/>
        </p:nvPicPr>
        <p:blipFill>
          <a:blip r:embed="rId1"/>
          <a:stretch/>
        </p:blipFill>
        <p:spPr>
          <a:xfrm>
            <a:off x="533520" y="21337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440" y="129528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6" name="4 Rectángulo"/>
          <p:cNvSpPr/>
          <p:nvPr/>
        </p:nvSpPr>
        <p:spPr>
          <a:xfrm>
            <a:off x="2286000" y="2828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8f8f8"/>
                </a:solidFill>
                <a:latin typeface="Times New Roman"/>
              </a:rPr>
              <a:t>http://www.makingsenseofhealth.org.uk/gfx/library/resources/HA2_VC.wmv  disec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act Heart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s shows the pig heart from the front, with the portion on the right of the picture being the left side of the heart and vice vers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aorta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is clearly visible at the top, with an 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atrium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on either side, while the 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ventricles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are in the bottom left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9" name="Picture 9" descr="http://www.heartlab.rri.on.ca/dissect/intact_heart.jpg"/>
          <p:cNvPicPr/>
          <p:nvPr/>
        </p:nvPicPr>
        <p:blipFill>
          <a:blip r:embed="rId1"/>
          <a:stretch/>
        </p:blipFill>
        <p:spPr>
          <a:xfrm>
            <a:off x="851040" y="1295280"/>
            <a:ext cx="347796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first incis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…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s along the right ventricle.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e right ventricle can be identified by squeezing the heart, since the myocardium on the right side is much less rigid than that of the left ventricle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s allows us to see the tricuspid valve and the right ventricular outflow tract which includes the pulmonary valve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icture 7" descr="http://www.heartlab.rri.on.ca/dissect/rv_incision.jpg"/>
          <p:cNvPicPr/>
          <p:nvPr/>
        </p:nvPicPr>
        <p:blipFill>
          <a:blip r:embed="rId1"/>
          <a:stretch/>
        </p:blipFill>
        <p:spPr>
          <a:xfrm>
            <a:off x="304920" y="1447920"/>
            <a:ext cx="4252680" cy="4343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ngitudinal Cut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e right ventricle has been cut open from the bottom towards the top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 this picture, the myocardium is being held back. My finger is stuck underneath one leaflet of the tricuspid valve, which leads to the pulmonary valve. 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7" name="Picture 7" descr="http://www.heartlab.rri.on.ca/dissect/rv_open.jpg"/>
          <p:cNvPicPr/>
          <p:nvPr/>
        </p:nvPicPr>
        <p:blipFill>
          <a:blip r:embed="rId1"/>
          <a:stretch/>
        </p:blipFill>
        <p:spPr>
          <a:xfrm>
            <a:off x="685800" y="1413000"/>
            <a:ext cx="3809880" cy="4413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Tricuspid Valve up clos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5880" y="1371240"/>
            <a:ext cx="2362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tricuspid valve allows blood to flow from the right atrium into the right ventricl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Picture 8" descr="http://www.heartlab.rri.on.ca/dissect/rv_tricuspid2.jpg"/>
          <p:cNvPicPr/>
          <p:nvPr/>
        </p:nvPicPr>
        <p:blipFill>
          <a:blip r:embed="rId1"/>
          <a:stretch/>
        </p:blipFill>
        <p:spPr>
          <a:xfrm>
            <a:off x="380880" y="1295280"/>
            <a:ext cx="5639040" cy="3575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lmonary Valv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hen the heart is contracting, the pulmonary valve is open because the blood pushes the cusps out of the way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fter contracting, the ventricles begin to relax and the pulmonary valve closes and prevents back-flow (called 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regurgitation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) of blood into the ventricl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Picture 7" descr="http://www.heartlab.rri.on.ca/dissect/rv_pulmonary.jpg"/>
          <p:cNvPicPr/>
          <p:nvPr/>
        </p:nvPicPr>
        <p:blipFill>
          <a:blip r:embed="rId1"/>
          <a:stretch/>
        </p:blipFill>
        <p:spPr>
          <a:xfrm>
            <a:off x="685800" y="1560600"/>
            <a:ext cx="3809880" cy="4118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ft Ventricl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is longitudinal incision extends from the bottom to the top of the left ventricle, then continues up into the atrium to allow us to view the entire left heart.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9" name="Picture 7" descr="http://www.heartlab.rri.on.ca/dissect/lv_incision.jpg"/>
          <p:cNvPicPr/>
          <p:nvPr/>
        </p:nvPicPr>
        <p:blipFill>
          <a:blip r:embed="rId1"/>
          <a:stretch/>
        </p:blipFill>
        <p:spPr>
          <a:xfrm>
            <a:off x="685800" y="1389240"/>
            <a:ext cx="3809880" cy="4460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Mitral (bicuspid) valv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itral valve prevents blood from flowing back into the left atrium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itral valve is positioned between the atrium (at top) and ventricle (at bottom). 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Picture 7" descr="http://www.heartlab.rri.on.ca/dissect/lv_mitral.jpg"/>
          <p:cNvPicPr/>
          <p:nvPr/>
        </p:nvPicPr>
        <p:blipFill>
          <a:blip r:embed="rId1"/>
          <a:stretch/>
        </p:blipFill>
        <p:spPr>
          <a:xfrm>
            <a:off x="685800" y="2043000"/>
            <a:ext cx="3809880" cy="31514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0:02:55Z</dcterms:created>
  <dc:creator>Trevor</dc:creator>
  <dc:description/>
  <dc:language>en-US</dc:language>
  <cp:lastModifiedBy>USUARIO</cp:lastModifiedBy>
  <dcterms:modified xsi:type="dcterms:W3CDTF">2013-02-18T20:45:39Z</dcterms:modified>
  <cp:revision>6</cp:revision>
  <dc:subject/>
  <dc:title>HEART DISSECTION</dc:title>
</cp:coreProperties>
</file>